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D14D-B1B6-4450-A174-3A01FDE8E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B9D8-A3E8-4090-AD3D-9841DF1A6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DD00-6865-45F0-9D67-20A450116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EC0A-6BEC-4981-B8AF-3611FFAEC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BFA-E64F-4C7E-93D9-6BFF9622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D88-BBC5-4CAF-A67C-DAEC6490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75A-4FB9-4960-A8A7-2FD9E0CB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FC6-F274-462D-9D4F-1E429B89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8A85-9F67-4256-BB52-B1C349FC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C654-2CAF-47F9-BF46-1B89489D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D5E6-72C1-4D18-BADB-4D40ECA0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FE53-7D38-4D00-A41F-97EDB514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C081-0D07-41DC-8639-F1AF4735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9E1D-CD83-4558-929A-EDE6A595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268C-B5C4-48F3-ACDD-CF2705E4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689-4EC0-44B8-89E9-5B13A9BC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24D4-6FFD-43A1-8897-7AF5AA09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8172-6408-4656-9F28-5227DBA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AD99-D666-4161-AFE6-1F4971E6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2C60-2520-4B58-B230-FFE57E07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2D7A-5B0E-40EA-A2C7-78AD71D2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676-179A-4C87-8BCB-4CB5875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257-2E03-4C6C-9997-EA28DF97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205-2935-4B28-9ADD-27AFE885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604-259F-4F76-AD17-8612DD72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54C-6541-4E37-BC5B-D3F3C969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9EB-9330-4E76-8E23-B7EA3A55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0DE-BCC5-4C88-B41B-8546C9B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6806-D9D6-4148-8526-F123A5924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653D-F185-4C25-A7E5-1659E5DDB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13" descr="j0078625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4"/>
          <p:cNvSpPr/>
          <p:nvPr/>
        </p:nvSpPr>
        <p:spPr>
          <a:xfrm>
            <a:off x="5029200" y="2895480"/>
            <a:ext cx="2895480" cy="1524240"/>
          </a:xfrm>
          <a:prstGeom prst="cloudCallout">
            <a:avLst>
              <a:gd name="adj1" fmla="val -60634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chaînes de télévision en Fran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8077320" cy="4770360"/>
        </p:xfrm>
        <a:graphic>
          <a:graphicData uri="http://schemas.openxmlformats.org/drawingml/2006/table">
            <a:tbl>
              <a:tblPr/>
              <a:tblGrid>
                <a:gridCol w="2667240"/>
                <a:gridCol w="27176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Stations de télévision en France sont attractifs parce que les programmes de divertissement, séries, documentaireset des nouvelles</a:t>
                      </a: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Celles qui présente le spectacle le plus crédi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Celles qui s'impliquer dans la réalisation des programmes de bienfaisance</a:t>
                      </a: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Des programmes de télévision savent très bien pour attirer les spectateurs la diversité des programm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39" descr="j0078625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- écoute quotidienne un spectacle en français  J'ai certainement apprendre de nouveaux mots</a:t>
                      </a: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Je veux savoir s'il ya question “d'apprendre le français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-à lire facile regarder des spectacles sous-titré en franç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49" descr="j0078625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t</cp:lastModifiedBy>
  <dcterms:modified xsi:type="dcterms:W3CDTF">2011-10-29T19:10:57Z</dcterms:modified>
  <cp:revision>27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